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5F81C-FAF3-42C2-8F89-94AAA02485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D3AFB-0B96-4195-8681-B5C2951CDD9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CE0FF-8C2B-43B2-92E6-52D1E156CE9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40D19-78C1-4A30-B9FF-EE20A4DAACB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BAD14-0D52-40B7-B4E1-746F1C24BA8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0EE57-6E18-460B-B0B9-9AF2981B381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77910-D9BF-479D-A2F9-45C90671CEA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88BAB-DD76-4836-8927-D63AC7CC693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DD3CA-D879-4F8F-A130-52D3164C2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9AB73-4E57-49DB-A04A-8104802AE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6DAB7-24E4-4382-A54B-48EC36424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FF11C-06F7-4F96-8286-909204997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229B2-7B4B-412E-AF30-FFDA36C74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EB296-2196-40E7-85EB-8C896492F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31138-9B5E-44E5-979B-63ED88E6F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1E969-7E0B-4305-8EF5-2FC07AE1E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B8448-64A6-498E-9B14-6357AF9BB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532D4-51D4-49B7-A485-AA0B7A345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B04B8-CC47-4E54-9A33-1C21E5F0B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DB74F-F4BF-4FAC-A278-A73D2EF20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F162A-5796-4B0E-A205-5FE269894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14143-2C6C-4B2A-9C8E-5429C066F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EC703-A345-4548-AB76-7E8527002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61E9F-D32D-4580-8EC4-D30F552CF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3996B-EE92-4462-8428-C79CCCFA4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AAEFE-F1AE-4534-B83C-32B99FC99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E6F31-2ADA-4D55-BCDF-08B395D36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E1237-1435-43F3-8A89-927C8F69B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22A97-53F2-4F52-B344-DF684D1C9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4C484-33F0-4618-B1CE-137902BCB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D83B7-E601-4B95-89D8-95C587418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CAEE4-2F97-4666-B2E5-203020D15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C5804-9EE4-469D-AA9D-E82AD8C03E4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E0B6F-5DCC-4AB1-BE16-0054C7306F5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tesol.org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71600" y="160020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838080" y="2057040"/>
            <a:ext cx="838224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oper Black"/>
                <a:ea typeface="Cooper Black"/>
              </a:rPr>
              <a:t>               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oper Black"/>
                <a:ea typeface="Cooper Black"/>
              </a:rPr>
              <a:t>Professional Organization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Introduction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eaching can often feel very overwhelming and isolating.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ecoming a member of a professional                                                                  organization can provide you with the support, networking, and training you might need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" name="Picture 1" descr=""/>
          <p:cNvPicPr/>
          <p:nvPr/>
        </p:nvPicPr>
        <p:blipFill>
          <a:blip r:embed="rId1"/>
          <a:stretch/>
        </p:blipFill>
        <p:spPr>
          <a:xfrm>
            <a:off x="3352680" y="2666880"/>
            <a:ext cx="2971800" cy="198144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1" descr=""/>
          <p:cNvPicPr/>
          <p:nvPr/>
        </p:nvPicPr>
        <p:blipFill>
          <a:blip r:embed="rId1"/>
          <a:stretch/>
        </p:blipFill>
        <p:spPr>
          <a:xfrm>
            <a:off x="7010280" y="4267080"/>
            <a:ext cx="1152720" cy="8384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" descr=""/>
          <p:cNvPicPr/>
          <p:nvPr/>
        </p:nvPicPr>
        <p:blipFill>
          <a:blip r:embed="rId2"/>
          <a:stretch/>
        </p:blipFill>
        <p:spPr>
          <a:xfrm>
            <a:off x="5943600" y="342900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Introduction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lvl="1" marL="329040" indent="-32904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 professional organization is a non-profit organization for advancing a specific profession and for defending the public interest and the                 interest of professionals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ost academic areas have                            professional organizations at                              the state, regional, and                                       national/international levels.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members of these organizations are people who have a shared interests in the offerings of that organization.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5" name="Picture 2" descr=""/>
          <p:cNvPicPr/>
          <p:nvPr/>
        </p:nvPicPr>
        <p:blipFill>
          <a:blip r:embed="rId3"/>
          <a:stretch/>
        </p:blipFill>
        <p:spPr>
          <a:xfrm>
            <a:off x="7086600" y="2895480"/>
            <a:ext cx="1523880" cy="152424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0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Examples of professional organizations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State Level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Sunshine State TESO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embership:  Second language educators (mainly TESOL) in Florid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Website: 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http://www.sunshine-tesol.org/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Newsletter: </a:t>
            </a: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The Messenge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Journal:  </a:t>
            </a: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The Sunshine State TESOL Journa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onference:  Annually, usually in May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National Level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Teachers of English to Speakers of Other Languages (TESOL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embership:  TESOL educators nationally and internationall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Website:  </a:t>
            </a:r>
            <a:r>
              <a:rPr b="0" lang="en-US" sz="1800" spc="-1" strike="noStrike" u="sng">
                <a:solidFill>
                  <a:srgbClr val="ffffcc"/>
                </a:solidFill>
                <a:uFillTx/>
                <a:latin typeface="Tahoma"/>
                <a:hlinkClick r:id="rId1"/>
              </a:rPr>
              <a:t>http://www.tesol.org/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Newsletter:  </a:t>
            </a: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Essential Teache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Journal:  </a:t>
            </a: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TESOL Quarterl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onference:  Annually, usually in March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ipe dir="l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0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1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1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2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2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12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2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2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12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2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2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12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2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2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12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7724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ahoma"/>
              </a:rPr>
              <a:t>By becoming a member of a professional organization, you can…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evelop relationships with pee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ngage in life-long learn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Keep up with current research,                     strategies, and trends in your fiel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ngage in networking – find out about employment, grant, travel, and resource opportuni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earn from colleagues/collaborate with colleagu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rve the profession by assisting at conferences, serving on committees, etc.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0" name="Picture 1" descr=""/>
          <p:cNvPicPr/>
          <p:nvPr/>
        </p:nvPicPr>
        <p:blipFill>
          <a:blip r:embed="rId1"/>
          <a:stretch/>
        </p:blipFill>
        <p:spPr>
          <a:xfrm>
            <a:off x="6324480" y="2133720"/>
            <a:ext cx="2057400" cy="137160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0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Other benefits…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2640" y="15238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You will receive newsletters  and professional journals on a regular basis.  These publications provide you with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46200" indent="-24840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New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46200" indent="-24840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Announcements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46200" indent="-24840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Articles written                                                             by K-12 and                                                        university educators about strategies that have worked for them, research they have conducted, etc.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46200" indent="-24840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Wealth of resourc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You will receive information about their annual conferences.  As a student, you will probably be able to pay a discounted conference registration fee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3" name="Picture 1" descr=""/>
          <p:cNvPicPr/>
          <p:nvPr/>
        </p:nvPicPr>
        <p:blipFill>
          <a:blip r:embed="rId1"/>
          <a:stretch/>
        </p:blipFill>
        <p:spPr>
          <a:xfrm>
            <a:off x="4038480" y="274320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0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" dur="5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How to join…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2640" y="1904760"/>
            <a:ext cx="75438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o to the professional organization’s website.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ook for “Membership” link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mplete and submit the form online or in hard copy form.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Join while you are a student.  You will receive a HUGE discount as a student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f required to provide a letter verifying your status as a student, ask your advisor or another faculty member if they might write you a letter.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ipe dir="l"/>
  </p:transition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0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7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2" dur="5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7" dur="5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2T21:11:18Z</dcterms:created>
  <dc:creator> </dc:creator>
  <dc:description/>
  <dc:language>en-US</dc:language>
  <cp:lastModifiedBy>Karen Verkler</cp:lastModifiedBy>
  <dcterms:modified xsi:type="dcterms:W3CDTF">2013-04-07T12:56:02Z</dcterms:modified>
  <cp:revision>63</cp:revision>
  <dc:subject/>
  <dc:title>Slide 1</dc:title>
</cp:coreProperties>
</file>