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86D-D40B-4311-9607-32402CA5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B8C0-5ACA-4CB9-9EB8-9B97F0919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C33-720A-4A04-B76C-47D8CA29F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312-2869-45F7-BF27-9AC0DFED6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57A4-FCB8-4B52-B8EA-F1A1857A5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BC8-EB85-480B-A5F8-3241E1DE1D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704B-BA60-486F-903C-EB4089167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DC4B-5CF4-46E7-BAB3-197EF400A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70E-9077-4BDB-AE2F-1AB10DB1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2B9-1F7B-4FC7-A39B-A859BCA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3D6-55C5-4F44-8015-9985AEEC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B89-D6D3-4DA9-9473-D21E0EB2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337B-663E-4360-9037-2D3B0282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B66E-0666-4B21-AC27-E5F7CDDB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C73-A528-47F1-B470-1EF1DDC4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253F-763D-4A66-805D-C97C308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BBB8-82B4-4971-90FC-685D64A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6D5E-F19B-4B1C-918D-4A070AAB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8BEF-3C80-4C08-9C6D-34623C2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1B5-A5F4-461F-896C-7C0899F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956B-E3D6-408C-B4FB-7161AC5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D585-0FCC-4CFC-8708-B410581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73AF-610B-41C9-B000-C1313148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4C9-5AEB-422E-B80F-685DBC55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3026-A966-4067-BCF2-A2C0F9D5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D13-2575-4ECC-9982-72B0C56E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C0B-1EE8-481B-B595-513379AD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8DD-66BF-4B1D-8113-CB28A5E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F81-3A80-4036-B45C-08DB1DB2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6F6-A748-4E1A-A268-642F970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D08-CF44-43B2-AD11-D061947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8CE-E4B7-4F3A-9E98-CAC16EE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38A-B7C9-4D0C-97EA-C33D39262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0E33-0850-4C7A-BFD4-D6E71C12D6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sol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oper Black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Professional Organiz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ing can often feel very overwhelming and isolat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oming a member of a professional                                                                  organization can provide you with the support, networking, and training you might ne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152720" cy="838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fessional organization is a non-profit organization for advancing a specific profession and for defending the public interest and the                 interest of professional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academic areas have                            professional organizations at                              the state, regional, and                                       national/international level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mbers of these organizations are people who have a shared interests in the offerings of that organizat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7086600" y="28954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professional organiz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ate Leve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nshine State TES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bership:  Second language educators (mainly TESOL) in Flori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bsite: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http://www.sunshine-tesol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sletter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Messen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urnal: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Sunshine State TESOL Jour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erence:  Annually, usually in Ma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National Leve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achers of English to Speakers of Other Languages (TESO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bership:  TESOL educators nationally and internation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bsite: 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tesol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sletter: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ssential Tea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urnal: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ESOL Quarter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erence:  Annually, usually in Mar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By becoming a member of a professional organization, you can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relationships with p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in life-long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up with current research,                     strategies, and trends in your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in networking – find out about employment, grant, travel, and resource 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from colleagues/collaborate with colleag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ve the profession by assisting at conferences, serving on committees,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ther benefits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receive newsletters  and professional journals on a regular basis.  These publications provide you 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nnouncemen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rticles written                                                             by K-12 and                                                        university educators about strategies that have worked for them, research they have conducted, etc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alth of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receive information about their annual conferences.  As a student, you will probably be able to pay a discounted conference registration fe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ow to join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the professional organization’s websit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“Membership” lin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nd submit the form online or in hard copy form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in while you are a student.  You will receive a HUGE discount as a stu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required to provide a letter verifying your status as a student, ask your advisor or another faculty member if they might write you a letter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3-04-07T12:56:02Z</dcterms:modified>
  <cp:revision>63</cp:revision>
  <dc:subject/>
  <dc:title>Slide 1</dc:title>
</cp:coreProperties>
</file>