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DFE-5C33-4695-B59F-C561CDCF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047-CB56-4FE0-99A4-EAFCFD4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636-BF9C-444B-B74E-217C014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789-B437-49D0-ACFC-0B71AD11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8740-F290-4D7D-8D6F-3AF17453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957-21BD-4D01-A738-9F78DC3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9CC1-ABA6-4155-A4E7-DDFAC37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E95-8010-4D57-AE5F-C945C7C5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5712-F33B-44B3-8300-B2CD57B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7B95-CADF-43A3-99E9-61A54F16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4D6-95BB-4F2E-99C5-66CF91F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E29-3A8A-4399-8D00-719969B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629F-F570-4D7A-BA37-F76CAF4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950A-7010-414E-949D-535CC17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29F-76F0-442E-AFFF-793123C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D636-EF32-4C4F-B78E-0AB6E7B8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0BF-AB7C-43F1-A72C-AE4B8967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759-7DD8-4573-B1FC-09C1528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9D4-AC37-4F33-9483-7CA3454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F0D-8C02-40C2-A855-7BAB20A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E3C-D44D-4405-8125-0A044A6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D5C-182D-4324-BF09-5F85D8D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B07-0992-4895-B166-E0A7C22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0AD-9A12-4554-BA37-2BD9D40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1BE-0D49-4D78-B1E3-CE39B4D79D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9F71-415B-4B1C-B57A-E8A728C2AA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apter 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veloping Oral and Written Presentational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3520" y="5364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he Nature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31680"/>
            <a:ext cx="79250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gives an oral or multimedia presentation to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prepares a written message/text/product for an audi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, multimedia, and written presentations are prepared in advance and may require research as part of the prepa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may do the                                                           presentation while reading from                                        a script, while glancing at notes,                                                                   or may deliver a pre-planned talk spontaneousl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943600" y="4403880"/>
            <a:ext cx="196992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ypes of Oral and Written Presentational Commun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– Describ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rrative – Telling a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ve – Explaining how to do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 – Providing evidence or justifying why something is as 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 – Persuading an audience to adopt our point of view or to rethink an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pretend that they are on a trip.  They are writing a                                  postcard to a friend back                                       home.  They are to                                         describe what the                                      scenery loo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where they a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write an outline of the main events of their trip and present them to another class via a multimedia present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demonstrate via a skit how to properly buckle an airplane seat bel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249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the different types of presentational communic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explain the procedures involved in getting to go on the trip. They are to submit a written plan detailing the procedur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students prepare a written advertising brochure/poster in which they try to convince others to take a trip to the place to which they travel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br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360" y="198288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scoring guidelines for                                   evaluating student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the means for teachers to give feedback to students about their progress as well as to assign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how what constitutes good performance before the students even perform the tas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“objectify” grading of oral and written work, projects, and authentic task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319248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480" y="4248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xcellent Site for Rubric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982880"/>
            <a:ext cx="73580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rubistar.4teachers.org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4-01-04T09:52:58Z</dcterms:modified>
  <cp:revision>233</cp:revision>
  <dc:subject/>
  <dc:title>Slide 1</dc:title>
</cp:coreProperties>
</file>