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1BF-4989-4E7C-8F6D-AC51C7E0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10B-3C22-4661-A22B-A1F93DBE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3B1-A27F-401D-BE6C-ED4C2F59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FF90-5CF6-4EAB-8815-DBD40D20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53C0-81B7-4BE4-97D3-3171EEF2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EF25-57CD-4DB7-B340-5A7EB035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2A55-521F-4916-8199-4E5CFE67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A47B-B1F6-4693-976F-28305246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EF04-53B2-4105-A619-AC9EB78D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FFDA-3FB7-4D51-925E-E066BD94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50A8-06CF-419B-9990-E180F048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128-4ACC-4158-8043-4C50AE26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7C2B-3A26-485B-B2F9-80ACE9E2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EA7E-7425-4E9E-ACCF-D7C08A1F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BC7A-63EE-4FC4-9E04-928E50F3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F386-B903-46FD-8C08-9096CEEC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5583-4E07-40CF-A7D6-8E1476A2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A9E-8E6E-4B61-8402-9B56B4EA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16FE-F6E0-4C7F-BB83-0CF7F4D9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37D2-C3EB-4644-93E8-B24F7865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A0A-7AC2-444D-8C3E-CDC2F95A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4E4E-5E8B-4C48-B86B-07876909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0FFE-C41B-4C28-9897-B848B885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C16-C4C0-4DB9-A492-632C6179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F37F-8A90-4FA1-985A-7F7CC945857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F99C-D48E-4941-8264-703DB248F6A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hapter 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eveloping Oral and Written Presentational Communic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3520" y="5364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The Nature of Oral and Written Presentational Communicatio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1831680"/>
            <a:ext cx="792504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udent gives an oral or multimedia presentation to an audienc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udent prepares a written message/text/product for an audienc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al, multimedia, and written presentations are prepared in advance and may require research as part of the prepar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udent may do the                                                           presentation while reading from                                        a script, while glancing at notes,                                                                   or may deliver a pre-planned talk spontaneously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943600" y="4403880"/>
            <a:ext cx="1969920" cy="131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Types of Oral and Written Presentational Communicatio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ptive – Describing some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rrative – Telling a 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nstrative – Explaining how to do some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natory – Providing evidence or justifying why something is as it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formative – Persuading an audience to adopt our point of view or to rethink an id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62496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Examples of the different types of presentational communicatio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students pretend that they are on a trip.  They are writing a                                  postcard to a friend back                                       home.  They are to                                         describe what the                                      scenery look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where they ar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62496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Examples of the different types of presentational communicatio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r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students write an outline of the main events of their trip and present them to another class via a multimedia presenta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nstr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students demonstrate via a skit how to properly buckle an airplane seat belt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62496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Examples of the different types of presentational communicatio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na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students explain the procedures involved in getting to go on the trip. They are to submit a written plan detailing the procedur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form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students prepare a written advertising brochure/poster in which they try to convince others to take a trip to the place to which they travel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4248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ubri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90360" y="1982880"/>
            <a:ext cx="735804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 of scoring guidelines for                                   evaluating student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 the means for teachers to give feedback to students about their progress as well as to assign grad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show what constitutes good performance before the students even perform the task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“objectify” grading of oral and written work, projects, and authentic task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3192480" cy="1660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23480" y="4248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Excellent Site for Rubric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360" y="1982880"/>
            <a:ext cx="735804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rubistar.4teachers.org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dcterms:modified xsi:type="dcterms:W3CDTF">2014-01-04T09:52:58Z</dcterms:modified>
  <cp:revision>233</cp:revision>
  <dc:subject/>
  <dc:title>Slide 1</dc:title>
</cp:coreProperties>
</file>