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2FB-A207-4E0B-B741-96AA51EC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F92-C81D-4865-9A49-7CEFDAE1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A8A-35C7-40DF-90B1-0AFCD971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A9B-69B9-4D5B-82E8-F2364359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919B-2118-48B1-81B0-CE88C94D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269B-3D50-4083-8EC8-98CB6AC4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F8EA-435F-4E3D-A84D-7B3CF5FB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FAD0-D57B-4CA9-9E38-7C5BA8CE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0768-F188-4114-BC66-06956C75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CA7D-AAF6-4460-A78F-F370FAE6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9795-0CB8-4CD5-9242-EA71C00D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8F47-9EFE-4D27-86B0-36D4D3C4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0AC9-98BC-4B15-8CD0-BB3FCCB5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53FE-2727-439B-A642-5B3B0571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ABDE-9156-4BE0-A1A0-F89223BA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29CD-7723-49D1-AD32-75B92A29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1C23-6DB1-42FF-9163-CEA4B64E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E69-BBC1-42C1-83D5-6D243EF8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423-A426-47F9-9A5E-8C6C8C7C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887-DE5B-4048-8328-7400FB6A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DC0-8368-431D-A415-93BCDE0E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E51-EDAF-469F-A723-D4644C67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74C-2D3B-4717-8C2D-37CDCBBC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7CB-42E9-43DE-9C9E-D8E2316B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3F7B-2734-49C0-B131-2ABE3AD3785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01BF-20D1-4E2F-ABC2-62875CAEDFE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eveloping Oral and Written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nterpersonal Communication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76120" y="1966680"/>
            <a:ext cx="7358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iciency:  the ability to use language to perform global tasks or language functions within a variety of contexts/content areas, with a given degree of accuracy, and by means of specific text typ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338880" y="3962520"/>
            <a:ext cx="1814400" cy="181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47520" y="7596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he need to bring in cultur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guage and culture are intertwined; they gain meaning from each 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of L2 culture is necessary for successful interaction with the cultu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of other cultures can        increase students’ awareness of             and appreciation for diversity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6705720" y="4022640"/>
            <a:ext cx="1768320" cy="1768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Incorporating Cultur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71360" y="2060280"/>
            <a:ext cx="735804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ural mini-drama:  Students listen to, watch, or read a series of scenarios in which miscommunication                                 is taking place; each                              successive episode reveals                       additional information; the                                   reason for the                                          misunderstanding is                              revealed in the last episod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225396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imulations and Gam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the teacher overcome the limitations of the classroo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 in lowering the affective filt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language skil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teach and evaluate language and cultural awarenes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change attitudes by placing        students in “real-life” situ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781680" y="4724280"/>
            <a:ext cx="1649520" cy="1648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eaching Interpersonal Writ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alogue journal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ten conversation in which students communicate one-on-one with the teacher or with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mmended for all ages and all levels of language developmen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e conducted through e-mail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eaeaea"/>
                </a:solidFill>
                <a:latin typeface="Tahoma"/>
              </a:rPr>
              <a:t>Teaching Interpersonal Writing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Pal and Pen Pal Ex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effective way to                            obtain new information                          and cultural perspecti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should be told that the main focus of the communication should be on meaning and not on linguistic accurac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6095880" y="2614680"/>
            <a:ext cx="1676520" cy="1195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1720" y="345960"/>
            <a:ext cx="7642440" cy="17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eaching Interpersonal Writ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chronous Electronic Inte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fers more equal participation than face-to-face inter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more time for                     processing input and                                    monitoring and editing                               output through self-                                pacing and assessmen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74440" y="4248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Influences on Enhancing Proficiency via Interpersonal Communication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93520" y="1981080"/>
            <a:ext cx="735804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CTFL (Americ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cil for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Foreign Language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al Proficienc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PI (Oral                            Proficiency Interview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Content Placeholder 5" descr=""/>
          <p:cNvPicPr/>
          <p:nvPr/>
        </p:nvPicPr>
        <p:blipFill>
          <a:blip r:embed="rId1"/>
          <a:srcRect l="0" t="13982" r="0" b="13982"/>
          <a:stretch/>
        </p:blipFill>
        <p:spPr>
          <a:xfrm>
            <a:off x="5715000" y="2151000"/>
            <a:ext cx="2252520" cy="1887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CTFL Guidelin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93520" y="1906560"/>
            <a:ext cx="73580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detailed information about performance in listening, speaking, reading, and writing at four major leve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level indicates performance in terms of functions, context, content, accuracy, and text typ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guage proficiency increases exponential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Oral Proficiency Interview (OPI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23480" y="1908000"/>
            <a:ext cx="735804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ardized procedure for the global assessment of oral proficienc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e-to-face, recorded interview            lasting from 5-30 minut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has to be a certified OPI                     tester in order to be able to                 conduct and assess the OP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designed to be used as a classroom te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 flipH="1">
            <a:off x="6780240" y="3048120"/>
            <a:ext cx="137304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3520" y="142560"/>
            <a:ext cx="75898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Impact of the ACTFL Proficiency Guidelines and the OPI on foreign language teaching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have encouraged the development of instructional materials that focus on communicatively-based and performance-based instru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have influenced the interpersonal nature of face-to-face oral tests.  These tests are more meaningful and contextualiz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have had an impact on classroom testing in that they have stressed the need for an oral component in testing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Influence of the OPI on Testing             of Oral Skill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view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le pl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al monolog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sation c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uation c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ration/Description of top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5240160" y="2514600"/>
            <a:ext cx="230364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3520" y="21384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ypes of activities to reach    proficiency level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vice:  acquiring vocabulary            through physical activities; using contextualized vocabulary in short conversations and present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ediate:  Engaging in spontaneous conversations involving familiar topics; asking questions; negotiating meaning in convers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 flipH="1">
            <a:off x="7086600" y="2209680"/>
            <a:ext cx="1441440" cy="1446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47520" y="4248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ypes of activities to reach    proficiency level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ced:  Conversing in a participatory manner; speaking in paragraphs using connector words; narrating and describing in present, past, and future; participating in situations with unanticipated complic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ior:  Discussing topics concretely and abstractly; supporting and defending an opinion; hypothesizing; conversing in linguistically unfamiliar situations; engaging in circumlocu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28440" y="15984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Interactive Activiti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23480" y="1906560"/>
            <a:ext cx="73580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ment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red activities and intervie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rsation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le plays – present the                      situation card in the native                           language so that students                    completely understand the task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 opinions, debating, narrating, describing, explaining:  advanced cla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5867280" y="3076560"/>
            <a:ext cx="236232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dcterms:modified xsi:type="dcterms:W3CDTF">2014-01-04T09:56:16Z</dcterms:modified>
  <cp:revision>236</cp:revision>
  <dc:subject/>
  <dc:title>Slide 1</dc:title>
</cp:coreProperties>
</file>