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80A-1F54-495E-8065-4B4859A8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445-060C-41AE-AD35-39A66B75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0AE-41AA-4CCA-9086-E12AEB29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CF4-C44F-40E1-AE77-A2B98F80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87BB-2BE8-462A-BACD-B5664522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3DB4-90E4-4F39-8950-739943C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1D7-9BFC-458D-85E8-7F09F8C3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A41B-CC9B-4259-B184-E339D418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2C04-6822-4F72-8C1B-7FCBB41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A08F-18AD-40CD-8ED0-3E5DD74A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7667-6F38-4F37-BE41-2AA53B6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501-BDEF-40C5-AD47-9065808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C738-7B1C-4409-9A54-C430BF0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E433-C69B-4740-93F7-95D33784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353C-9A2B-481B-A42E-2E7D2FF2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3DDE-513B-45E7-93DB-9476ACFE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EEB5-D7FC-463D-9CC4-A2E60244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272-B987-4FA9-9B70-DB5C6EAF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419-A8B7-41F3-B541-68A33F0B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B94-9B4C-4E34-9FB4-AF78915F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C8C-0A16-45CF-BBF7-0748BED4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791-F5E8-4988-BD28-3F40488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8EF-F4A8-4401-9137-B9792EC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189-A83B-47BF-BC49-14CB202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5B8-09A6-4801-9AAB-2E010760351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15F-2AB8-48EB-A7DD-B9F069F5F1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76120" y="1966680"/>
            <a:ext cx="7358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ciency:  the ability to use language to perform global tasks or language functions within a variety of contexts/content areas, with a given degree of accuracy, and by means of specific text typ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338880" y="3962520"/>
            <a:ext cx="181440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47520" y="7596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need to bring in cultur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and culture are intertwined; they gain meaning from each 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L2 culture is necessary for successful interaction with the cul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other cultures can        increase students’ awareness of             and appreciation for diversity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6705720" y="4022640"/>
            <a:ext cx="176832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corporating Cultur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71360" y="2060280"/>
            <a:ext cx="73580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 mini-drama:  Students listen to, watch, or read a series of scenarios in which miscommunication                                 is taking place; each                              successive episode reveals                       additional information; the                                   reason for the                                          misunderstanding is                              revealed in the last episod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2539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imulations and Gam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teacher overcome the limitations of the classroo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in lowering the affective fil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language ski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teach and evaluate language and cultural awarenes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change attitudes by placing        students in “real-life” sit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649520" cy="1648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eaching Interpersonal Writ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logue journal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conversation in which students communicate one-on-one with the teacher o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for all ages and all levels of language developmen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conducted through e-ma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eaeaea"/>
                </a:solidFill>
                <a:latin typeface="Tahoma"/>
              </a:rPr>
              <a:t>Teaching Interpersonal Writing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Pal and Pen Pal Ex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effective way to                            obtain new information                          and cultural perspec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should be told that the main focus of the communication should be on meaning and not on linguistic accura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6095880" y="2614680"/>
            <a:ext cx="1676520" cy="1195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1720" y="345960"/>
            <a:ext cx="7642440" cy="17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eaching Interpersonal Writ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chronous Electronic Inte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s more equal participation than face-to-face inter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more time for                     processing input and                                    monitoring and editing                               output through self-                                pacing and assessmen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444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Influences on Enhancing Proficiency via 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93520" y="1981080"/>
            <a:ext cx="735804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FL (Americ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cil fo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Foreign Language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al Proficien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PI (Oral                            Proficiency Intervie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Content Placeholder 5" descr=""/>
          <p:cNvPicPr/>
          <p:nvPr/>
        </p:nvPicPr>
        <p:blipFill>
          <a:blip r:embed="rId1"/>
          <a:srcRect l="0" t="13982" r="0" b="13982"/>
          <a:stretch/>
        </p:blipFill>
        <p:spPr>
          <a:xfrm>
            <a:off x="5715000" y="2151000"/>
            <a:ext cx="2252520" cy="188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CTFL Guidelin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93520" y="190656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detailed information about performance in listening, speaking, reading, and writing at four major lev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level indicates performance in terms of functions, context, content, accuracy, and text typ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proficiency increases exponential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Oral Proficiency Interview (OPI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23480" y="1908000"/>
            <a:ext cx="735804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ized procedure for the global assessment of oral proficienc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e-to-face, recorded interview            lasting from 5-30 minut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has to be a certified OPI                     tester in order to be able to                 conduct and assess the OP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designed to be used as a classroom te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 flipH="1">
            <a:off x="6780240" y="3048120"/>
            <a:ext cx="13730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3520" y="142560"/>
            <a:ext cx="7589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Impact of the ACTFL Proficiency Guidelines and the OPI on foreign language teaching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encouraged the development of instructional materials that focus on communicatively-based and performance-based instru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influenced the interpersonal nature of face-to-face oral tests.  These tests are more meaningful and contextualiz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had an impact on classroom testing in that they have stressed the need for an oral component in test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nfluence of the OPI on Testing             of Oral Skill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view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pl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al monolo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sation c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uation c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ration/Description of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240160" y="2514600"/>
            <a:ext cx="23036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ice:  acquiring vocabulary            through physical activities; using contextualized vocabulary in short conversations and presen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:  Engaging in spontaneous conversations involving familiar topics; asking questions; negotiating meaning in convers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 flipH="1">
            <a:off x="7086600" y="2209680"/>
            <a:ext cx="1441440" cy="144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4752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d:  Conversing in a participatory manner; speaking in paragraphs using connector words; narrating and describing in present, past, and future; participating in situations with unanticipated compl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ior:  Discussing topics concretely and abstractly; supporting and defending an opinion; hypothesizing; conversing in linguistically unfamiliar situations; engaging in circumlocu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440" y="159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teractive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23480" y="190656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red activities and inter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ation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plays – present the                      situation card in the native                           language so that students                    completely understand the tas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opinions, debating, narrating, describing, explaining:  advanced cla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5867280" y="3076560"/>
            <a:ext cx="236232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4-01-04T09:56:16Z</dcterms:modified>
  <cp:revision>236</cp:revision>
  <dc:subject/>
  <dc:title>Slide 1</dc:title>
</cp:coreProperties>
</file>