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BF3-6DD9-4910-AFA3-7AE986DE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D99-D3B4-4E5A-9C46-1D51A939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E86-4B97-4F86-B6D4-ACDDAFC7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FAD-7609-4D75-99AA-77F687B6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C133-C7A4-4F61-AE35-95804EC5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C374-3F8E-433A-81DE-63EC98A6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BB36-DC40-41C7-8226-7B3B14FA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AD22-B6A3-4ADB-9C4F-AE786D69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F3D2-5596-4808-A981-09D720D9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C928-0639-462F-994E-C7EDF93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1796-1094-4E86-B133-5E74D499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6B0-ACA9-4314-989F-9F3B7D48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9609-546B-4B1D-8C34-9C862D0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81E5-2579-4F49-99B9-AB17C5B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FFAB-8AA9-4912-B095-89845166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7EC8-7BAD-4061-A91E-FAF4EFD1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2115-6511-4EA6-8688-BA55B8F4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CAA-BA70-4CC7-8ABB-48C8E63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282-4E9A-44A8-B79F-7166335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9D7-3723-4B61-AB02-B55039B6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732-2BE5-4333-9AA4-8202AF2A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619-3144-48DF-A67C-3FA348A8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527-3F01-4E7A-BB3C-240D5A77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F4F-5A7B-4A85-80C9-335B9652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40B3-5397-4769-839F-187DE172C1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DD42-0802-4C42-87EE-EFBC876978A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Grammar Instruction:  Explicit or Implicit Controvers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icit grammar instruc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grammar instr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and overt role on the part of the teac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begin instruction in a passive w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gins only after explanation of the grammatical struc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ill getting precedes                                           skill using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5334120" y="4429080"/>
            <a:ext cx="319068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asks for the rest of Day Three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out journals for El Café Assign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the following components to your lesson pl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cipatory 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ing input/Pres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mplicit Grammar Instruc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cquire grammatical structures through meaningful interac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cquire language naturally if provided with sufficient comprehensible inpu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ers will eventually be able                                     to hypothesize and determine                                         the functions as well as the                                         meanings of the linguistic form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002280" y="3505320"/>
            <a:ext cx="25322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yclical Approach of Whole Languag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 foreshadows grammatical explanation through integrated discourse; focus is on mean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 recycles story line via TPR, role playing, etc.; focus is on mea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 turns learners’ attention to for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do extension activities requiring their use of the grammatical structur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867280" y="4729320"/>
            <a:ext cx="1747800" cy="174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Model for Integrating Form in a Story-Based Language Approach:  P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NTATION of meaningful language:  thematic, contextualized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ation must accurately represent the structure to be tau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ucture should repeat enough times in a natural w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ation should be interactiv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ffold participation in activit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Model for Integrating Form in a Story-Based Language Approach:  P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:  Teacher focuses students’ attention on some regularity of the langu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-CONSTRUCT an explan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encouraged to hypothesize, guess, make predictions about the target for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s use their questioning skills.                                   They guide the students along the wa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Model for Integrating Form in a Story-Based Language Approach:  P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ON Activity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given the opportunity to use their new skill in creative and interesting ways while simultaneously integrating it into existing knowled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on activities are NOT worksheets on which use the target language to fill in the blanks,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Directions for the Story-Based Language Approach Assignment:  P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 a grammatical concept that you might teach. You may refer to a language textbook for your select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member of the group is to then select one of the four stages of PA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person is to write in narrative form precisely what he/she would do in presenting the material during his/her stage.  Follow the descriptions for each stage given on pp. 196-202 of the course textbook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eview of PAC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072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ing needs to be integrated, contextualized, and meaning-cente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mmunicatively-based unit is thus contextualized and integrated, enabling the instructional events to flow natural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d and meaning-centered activities facilitate learner comprehension and reten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ing integrated and meaning-centered activities tend to be one of the most difficult aspects of PACE because most textbooks still consist of fragmented content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eview of PAC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ers are active participants in the learning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ers are actively discovering and hypothesizing about L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 PACE activities encourage functional and interactional use of language by giving learners opportunities to share information, ask questions, and solve problems collaborativel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dcterms:modified xsi:type="dcterms:W3CDTF">2014-01-04T09:42:21Z</dcterms:modified>
  <cp:revision>221</cp:revision>
  <dc:subject/>
  <dc:title>Slide 1</dc:title>
</cp:coreProperties>
</file>