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001-64F1-4F3D-9518-E1099BBE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70B-3EAD-4035-8F43-FBA825DC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BFA-89E7-4318-8402-D34541AD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D2A-119D-490D-9F5B-FF67527F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AC65-7C38-400F-9A33-8FE0EB9E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D193-C67D-48D5-AD37-8332FF17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42CA-4C5F-494F-BBD2-EEDC5691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2169-D29B-43AD-86FF-7BC6FBF9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7A0C-14EA-460B-B343-332189BE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305B-7C64-4AFF-98FF-313B0EA4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6E36-1503-4B2E-B66B-728DD44C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8B9-880D-4C83-83DA-F2B1493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E1AD-7DE9-4607-A24F-374F9C3E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5758-8BBE-41F6-8AFC-0CA9B895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1602-E207-42D6-8522-37B20D10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540D-BF54-467F-8C31-83573148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3DED-6C2C-41AD-9397-153D7E52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921-DA72-4B10-8A4B-ADA47CFC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20C-DD2A-46DF-BD48-2DF780A9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9ED-4E28-46BA-98E3-A6FF84E0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8F7-AB6A-4F7C-8023-D76EF41D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3B3-2E65-4577-8974-C6BB3ED6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4E8-C274-4B2C-AFF6-0FBF1EBB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0DB-5997-4E6A-8BCB-BE02EFC0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4516-D288-4FCA-9314-5035A16EE6D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F80B-E080-433E-A490-84C93B813C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Grammar Instruction:  Explicit or Implicit Controvers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icit grammar instruc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grammar instr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and overt role on the part of the teac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begin instruction in a passive w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gins only after explanation of the grammatical struc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ill getting precedes                                           skill using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5334120" y="4429080"/>
            <a:ext cx="319068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asks for the rest of Day Three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out journals for El Café Assign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the following components to your lesson pl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cipatory 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ing input/Pres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Implicit Grammar Instruc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cquire grammatical structures through meaningful interac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cquire language naturally if provided with sufficient comprehensible inpu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ers will eventually be able                                     to hypothesize and determine                                         the functions as well as the                                         meanings of the linguistic form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002280" y="3505320"/>
            <a:ext cx="25322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yclical Approach of Whole Languag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 foreshadows grammatical explanation through integrated discourse; focus is on mean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 recycles story line via TPR, role playing, etc.; focus is on mea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 turns learners’ attention to for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do extension activities requiring their use of the grammatical structur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5867280" y="4729320"/>
            <a:ext cx="1747800" cy="174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Model for Integrating Form in a Story-Based Language Approach:  P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NTATION of meaningful language:  thematic, contextualized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tation must accurately represent the structure to be tau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ucture should repeat enough times in a natural w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tation should be interactiv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ffold participation in activit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Model for Integrating Form in a Story-Based Language Approach:  P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:  Teacher focuses students’ attention on some regularity of the langu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-CONSTRUCT an explan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re encouraged to hypothesize, guess, make predictions about the target for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s use their questioning skills.                                   They guide the students along the wa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629400" y="38098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Model for Integrating Form in a Story-Based Language Approach:  P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ON Activity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re given the opportunity to use their new skill in creative and interesting ways while simultaneously integrating it into existing knowled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on activities are NOT worksheets on which use the target language to fill in the blanks, et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Directions for the Story-Based Language Approach Assignment:  P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 a grammatical concept that you might teach. You may refer to a language textbook for your selectio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member of the group is to then select one of the four stages of PA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person is to write in narrative form precisely what he/she would do in presenting the material during his/her stage.  Follow the descriptions for each stage given on pp. 196-202 of the course textbook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eview of PAC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9072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ing needs to be integrated, contextualized, and meaning-cente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mmunicatively-based unit is thus contextualized and integrated, enabling the instructional events to flow natural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ed and meaning-centered activities facilitate learner comprehension and reten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ing integrated and meaning-centered activities tend to be one of the most difficult aspects of PACE because most textbooks still consist of fragmented content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eview of PAC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ers are active participants in the learning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ers are actively discovering and hypothesizing about L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the PACE activities encourage functional and interactional use of language by giving learners opportunities to share information, ask questions, and solve problems collaborativel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dcterms:modified xsi:type="dcterms:W3CDTF">2014-01-04T09:42:21Z</dcterms:modified>
  <cp:revision>221</cp:revision>
  <dc:subject/>
  <dc:title>Slide 1</dc:title>
</cp:coreProperties>
</file>