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32DB-7413-4C56-B062-7D2A3D08E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8316-95B0-4F0D-A747-46662EC46465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D9EB-A077-42AA-A6E2-48C3E4613836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A41-199B-428D-86E7-3AB60C95D3E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53D8-1138-4A75-ACA1-39950F0ACE93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15CA-C712-45E4-88CF-BAEFF0267C2F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72FA-84D2-44C6-8777-36144889C40F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BC72-F4F0-4495-87BB-D271BD51CFD0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AE7C-BA02-496F-95A9-45C5D1E30CC4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5B1-C805-4CDE-96BC-26184845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249-0429-44F0-AF7E-DD7E5CCF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CD2-B69F-4D32-B226-FDADABEF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48D-F8D3-4E74-8CF3-A248BB5A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52D3-DA23-4F96-A7F8-43B59807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057A-36F0-41DE-A493-7D016881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4909-25FD-454B-AA4F-3D4E6831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657D-E077-4191-8422-98750CB4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12B4-F03A-4E9A-8011-B3D233B4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84B5-2668-4B58-981E-4FA1918E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B826-1E12-4906-B6E8-559090BE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988-8CAA-4F37-9C8A-F1DD5FBE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DD35-2BB6-49A6-A21D-226AF913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5AF2-5872-4817-B9C0-BE807AE9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1C77-DF7A-4D57-A49F-6EEF5C89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8AA9-87E5-4B5F-899C-03ED4FA1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1569-DEEE-434F-BE51-577BF741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495E-CCF5-4368-A138-7E82CAAB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8F3E3-5DFC-40A4-B128-9EF0A151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A1D7-CE49-4C3D-8BBD-3898957B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CF3CA-3414-4096-A5F4-77EA7214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3C92-F7DB-432F-8708-0DB17158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B3A-F025-4DA8-85F8-FAD21C91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2238-02EB-48F2-895D-C20CDFC8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B80F9-CB24-462D-B0DA-D2D42A1F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078A-6BD1-462B-A517-51AD8565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B8335-FC55-4C99-B1C7-EB3F7FC0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1B6D-B73D-44EF-A966-CD891A32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623D-AB39-433B-8264-6FAD766F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D79F-45FA-4568-B3A4-08DD7DDF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62EE-413E-467A-A3FA-33F9A442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5E4B-0595-443D-BDC9-B0E6D528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D30E-67C9-4415-A1F6-74373F28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B53-8BE7-475E-BB82-D55A1B37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BBCD-125A-4A5B-B3C4-40E2E350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CC25C-F974-43DF-BC30-269E7419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90E15-B1DE-4F9A-B2F8-6E9BDB7D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F736A-98C8-4B04-BC12-E250E5BE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802F5-DBB6-4F85-AD7B-F0590C5C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09F9F-11D0-4A16-B792-D037157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1F4FE-5D00-4092-B8BE-825DFD30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A25F-599B-41CD-BB63-6664D436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3B3C0-F236-4A4E-A9D5-EF67A67F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B16-1E0F-4FD5-B349-CBBE70C2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5BC-E34E-4ACB-9028-FECB0914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329-59D9-438F-B395-D57A7478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EBD-D927-414F-870F-86C6DA9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B99-CAAE-4C7C-8DEA-76F0F33E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E48B-0739-431B-8CCC-E3BE18B050F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77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80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3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8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C539-7BEC-49D8-B432-1287BDC3C4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231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232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233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234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235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36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237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9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40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241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2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3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244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5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6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247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8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9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250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2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253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56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8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59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1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262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3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4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265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7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268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271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3" name="Group 183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274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6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77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8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9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280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1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2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83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4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5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286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7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8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289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0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1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292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3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4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29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6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7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298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9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0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301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2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03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05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306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7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8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309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0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1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312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3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4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315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6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7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318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9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0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321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2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3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324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5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6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327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8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9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330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1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2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333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4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5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336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7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338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339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340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2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3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5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6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47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48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349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0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1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2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3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4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5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6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7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8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9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0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1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2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75F7-9735-44A6-B2D7-A2987FFBFF2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0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0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0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sp>
          <p:nvSpPr>
            <p:cNvPr id="40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41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1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0323-07B1-4A4B-87D8-F6876502A2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184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ning Your Presentational Skill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Picture 1" descr="th.jpg"/>
          <p:cNvPicPr/>
          <p:nvPr/>
        </p:nvPicPr>
        <p:blipFill>
          <a:blip r:embed="rId1"/>
          <a:stretch/>
        </p:blipFill>
        <p:spPr>
          <a:xfrm>
            <a:off x="2414520" y="297180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nciples of teaching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a direct teach lesson: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the objective (s) clear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 the students as mu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possible (try to break u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livery of content 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nking the information and inserting several brain break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 and model the concep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 &amp; A or some other review at the closure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Picture 1" descr="th-1.jpg"/>
          <p:cNvPicPr/>
          <p:nvPr/>
        </p:nvPicPr>
        <p:blipFill>
          <a:blip r:embed="rId1"/>
          <a:stretch/>
        </p:blipFill>
        <p:spPr>
          <a:xfrm>
            <a:off x="640080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oing a teach: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ake note of the importance of the three skills of presenting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bal:  What you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cal:  How you say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:  How you look and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1348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Picture 8" descr="MCj02975670000[1]"/>
          <p:cNvPicPr/>
          <p:nvPr/>
        </p:nvPicPr>
        <p:blipFill>
          <a:blip r:embed="rId1"/>
          <a:stretch/>
        </p:blipFill>
        <p:spPr>
          <a:xfrm>
            <a:off x="3429000" y="4889520"/>
            <a:ext cx="274320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Visual: how you look &amp; ac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ess professional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welcoming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 communication – Look at every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y language – Be open to the stud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rculate whenever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 – Use an anticipatory s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 – Review what was learned; ha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 and answer se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using visual aids to make th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more comprehensible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Picture 4" descr="MCj03341680000[1]"/>
          <p:cNvPicPr/>
          <p:nvPr/>
        </p:nvPicPr>
        <p:blipFill>
          <a:blip r:embed="rId1"/>
          <a:stretch/>
        </p:blipFill>
        <p:spPr>
          <a:xfrm>
            <a:off x="7015320" y="4419720"/>
            <a:ext cx="1823760" cy="205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ocal: how you say i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e enthusiasm, sincerity, and confid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n the positive, not the neg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y the rhythm, rate, and volume of your vo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smooth transitions.  Prepare the students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 regarding upcoming changes in activi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For example, you may say something like, “Before we move on to the next activity, does anyone have any question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unciate and project your voi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on avoiding saying, “You guys,” “uh,” “um,” et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erbal: what you s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you provide accurate inform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know the answer to a question,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make up an answ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on the timing of what you do and s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what you are saying coincides with any references you make to visuals and other instructional material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pare the teac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your lesson objective(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cipate the types of questions you might be asked and be ready with appropriate respons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visual aids that wi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HANCE your presentation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 prepared with all of y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, practice, and practi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mo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5" name="Picture 1" descr="th-2.jpg"/>
          <p:cNvPicPr/>
          <p:nvPr/>
        </p:nvPicPr>
        <p:blipFill>
          <a:blip r:embed="rId1"/>
          <a:stretch/>
        </p:blipFill>
        <p:spPr>
          <a:xfrm>
            <a:off x="6400800" y="32767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 Black"/>
              </a:rPr>
              <a:t>Success!</a:t>
            </a:r>
            <a:endParaRPr b="0" lang="en-US" sz="5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67652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will do a SUPERB job!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21:11:18Z</dcterms:created>
  <dc:creator> </dc:creator>
  <dc:description/>
  <dc:language>en-US</dc:language>
  <cp:lastModifiedBy>Karen Verkler</cp:lastModifiedBy>
  <dcterms:modified xsi:type="dcterms:W3CDTF">2014-12-28T09:04:05Z</dcterms:modified>
  <cp:revision>51</cp:revision>
  <dc:subject/>
  <dc:title>Slide 1</dc:title>
</cp:coreProperties>
</file>