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6B96-D891-48FD-B2C8-2ECFF9A9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F7DE-71A4-439F-B954-845C6062C6F1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3595-D2A6-423E-B87D-8416F4A45A4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F9D4-BAF8-407B-B5BD-F7E58A1D82A0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37C6-EAA5-4FA2-A385-95F28F922CD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FBDE-6788-4635-8203-96ACA8A7B4D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DF56-07C4-417A-A9E3-4ABEA9635F20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E433-2F12-4199-A58D-B88D5560096B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0C21-B544-4136-9FD5-001170BE877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045-7D77-4E96-A05F-6DBC0206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1D9-F12F-4A75-805E-D200F2B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F8C-C86B-4A42-A931-69380D77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79B-4046-403A-8B8D-5189BFB6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CF7F-143E-4F85-A26C-2D941D66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CB1C-B6BE-4289-8993-C3825BEA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2FB5-F5A8-464F-9483-EF53AC08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04F7-7A3B-4C6D-863E-AC1AB697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5806-4B1E-4048-931F-92D2555C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E2BC-6F31-4AD0-A5CA-11B8C25F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85C2-ACEF-46A3-BB57-D194FFF0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10F-D74A-4BC3-BD67-CA7DDF90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1759-CB41-440A-A9AC-0269AA8D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4DFA-46D6-4451-B210-612A604D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B44C-A920-4526-941C-768F871D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05EC-0CC2-49A3-A000-E38882B7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CCA0-4A89-4471-94DC-7B61D1A2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2C37-1FB1-488E-86FD-F126090F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449E-A43E-4696-89E6-D94F7FF2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A82D-1DA7-4922-B280-3B2A8032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5E04-8A3F-49D5-BDB1-72E41244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AF77-DB45-4365-A116-2A250D3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95F-DE1F-47AE-95B1-FA6ADE10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79F6-5E8B-485E-83FB-6AE2A363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E20F-F02A-42C6-8507-FC1FDAA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82D2-5750-4E60-AFF9-46B07D04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EB54-40D5-4937-B40B-3F0D3AA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982D-41FE-4063-82F6-AB0C67C0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C638-F0C5-4C78-8D38-222DE0C9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9BD6-D43A-4A12-AE66-04B6B942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44A5-2AE4-48E7-8286-FC279B1D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AEBF4-794B-4414-942C-4A91EBBF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5DB6-BE54-4361-8B79-5BEFBFEE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87C-63B2-46E7-82BB-03469F05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E6DF-78BE-4244-9FCA-03A9F1B6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85B3-8486-4967-8E49-975DD51D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B4D4-B3EC-45BA-94FA-6B4B22BE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A59F-2C27-4721-B873-8DE00FBD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B0D51-63B2-4782-AE8C-0CFAA1A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E6960-C8AD-4826-A3DA-4C2858C2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16FD-EC04-4315-944F-0A889239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93AA6-A6B5-49BE-AD07-EF0818C0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8DA74-3586-4A1F-BC2E-6865CBD2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9F3-ED57-4473-8268-60A54A18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3B5-640A-43C3-B1C2-C49305B1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BF4-E57A-4249-A441-B05E931E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0E8-54EE-4553-B08E-E6A985CF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733-2D4F-4C00-A8A5-5AFD331E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E28B-959A-4408-9B57-9FFA4C45D6B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77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0458-2A5E-4ABE-8BC7-A2AAAF0584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31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232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33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234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3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36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237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40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241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2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3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244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5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6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247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8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9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250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2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253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56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8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59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1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62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3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4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65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7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68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71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3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74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6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77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8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9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80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1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2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83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4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5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86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7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8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89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0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1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92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3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4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9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6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7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98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9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0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301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2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03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05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306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7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8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309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0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1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312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3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4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315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6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7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318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9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0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321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2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3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324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5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6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327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8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9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330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1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2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333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4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5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336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7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338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339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340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2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3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5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6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47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48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349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0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1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2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3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4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5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6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7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8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9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0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1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2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50EE-27DD-48BC-A584-A5E1A046830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0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0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0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sp>
          <p:nvSpPr>
            <p:cNvPr id="40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1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B4D7-B9F8-4050-AD72-5025E3965F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184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ning Your Presentational Skill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1" descr="th.jpg"/>
          <p:cNvPicPr/>
          <p:nvPr/>
        </p:nvPicPr>
        <p:blipFill>
          <a:blip r:embed="rId1"/>
          <a:stretch/>
        </p:blipFill>
        <p:spPr>
          <a:xfrm>
            <a:off x="2414520" y="29718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 of teaching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 direct teach lesson: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the objective (s) clear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 the students as mu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ossible (try to break u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livery of content 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nking the information and inserting several brain break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 and model the concep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 &amp; A or some other review at the closure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Picture 1" descr="th-1.jpg"/>
          <p:cNvPicPr/>
          <p:nvPr/>
        </p:nvPicPr>
        <p:blipFill>
          <a:blip r:embed="rId1"/>
          <a:stretch/>
        </p:blipFill>
        <p:spPr>
          <a:xfrm>
            <a:off x="640080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oing a teach: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ake note of the importance of the three skills of presenting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al:  What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l:  How you say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:  How you look and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134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8" descr="MCj02975670000[1]"/>
          <p:cNvPicPr/>
          <p:nvPr/>
        </p:nvPicPr>
        <p:blipFill>
          <a:blip r:embed="rId1"/>
          <a:stretch/>
        </p:blipFill>
        <p:spPr>
          <a:xfrm>
            <a:off x="3429000" y="4889520"/>
            <a:ext cx="274320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Visual: how you look &amp; ac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ss professional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welcoming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 communication – Look at every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y language – Be open to the stud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late whenever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 – Use an anticipatory s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– Review what was learned; ha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 and answer se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using visual aids to make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ore comprehensible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4" descr="MCj03341680000[1]"/>
          <p:cNvPicPr/>
          <p:nvPr/>
        </p:nvPicPr>
        <p:blipFill>
          <a:blip r:embed="rId1"/>
          <a:stretch/>
        </p:blipFill>
        <p:spPr>
          <a:xfrm>
            <a:off x="7015320" y="4419720"/>
            <a:ext cx="1823760" cy="20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ocal: how you say i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e enthusiasm, sincerity, and confid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the positive, not the neg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y the rhythm, rate, and volume of your vo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smooth transitions.  Prepare the students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 regarding upcoming changes in activ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example, you may say something like, “Before we move on to the next activity, does anyone have any question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unciate and project your vo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on avoiding saying, “You guys,” “uh,” “um,”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erbal: what you s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you provide accurate inform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know the answer to a question,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make up an answ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on the timing of what you do and s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what you are saying coincides with any references you make to visuals and other instructional materia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pare the tea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your lesson objective(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cipate the types of questions you might be asked and be ready with appropriate respons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visual aids that wi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 your presentation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 prepared with all of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, practice, and prac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mo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Picture 1" descr="th-2.jpg"/>
          <p:cNvPicPr/>
          <p:nvPr/>
        </p:nvPicPr>
        <p:blipFill>
          <a:blip r:embed="rId1"/>
          <a:stretch/>
        </p:blipFill>
        <p:spPr>
          <a:xfrm>
            <a:off x="6400800" y="32767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 Black"/>
              </a:rPr>
              <a:t>Success!</a:t>
            </a:r>
            <a:endParaRPr b="0" lang="en-US" sz="5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will do a SUPERB job!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11:18Z</dcterms:created>
  <dc:creator> </dc:creator>
  <dc:description/>
  <dc:language>en-US</dc:language>
  <cp:lastModifiedBy>Karen Verkler</cp:lastModifiedBy>
  <dcterms:modified xsi:type="dcterms:W3CDTF">2014-12-28T09:04:05Z</dcterms:modified>
  <cp:revision>51</cp:revision>
  <dc:subject/>
  <dc:title>Slide 1</dc:title>
</cp:coreProperties>
</file>