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AA25-273C-4957-A298-E0B6FD07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5857-DD7D-45B1-AF01-EF9D1FE079E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4D01-48B4-4668-9311-88FE272095A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0B9F-A095-44A4-99D6-33F47A5A207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19CF-2AE9-4B59-878B-B76449A531F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94FD-C5E7-46B1-B19C-F1153320730A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03B8-A1C2-490B-87E9-0BC5A6C3DEE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16D9-F642-43F1-8081-A52C84CA6D4A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4108-72F5-4D97-BA0F-AA9D3AEDA30B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E1D-B2B7-4507-A3D4-C1726EEC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CDC-9073-4742-8697-A151C66C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9D0-201E-46FB-BC6C-44C89497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4BB-1F8E-4D57-A59C-10715289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E24C-097E-40E9-B77E-C0DE9CE4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154E-C6D3-4E13-AC39-E6A41730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0DE6-F83D-4DA0-A5F4-2577AC84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B919-A6E2-479D-ACA0-1E69BA6B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D88E-F84D-49CC-89FC-E4F089E1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6FAF-0C95-4097-AA07-668FDE42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A1FA-BB7E-48EE-B212-C51A556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AD6-0823-43F8-8BE2-8F4E1304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2699-B7F9-4658-BA05-25DF3E47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EBF4-D67B-4001-9EAE-B7C8B2C4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51F5-C6D2-4E71-A288-8274A62D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6D5F-79CD-455E-9445-838573CB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4F89-002B-4AD9-95F6-911C63D8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8FE1A-FDD6-4B62-9093-6938D3FB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E7B3-06D7-47BA-9622-4ED56586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F2E1-28B7-48CE-BEC7-709D989C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5342-185B-46EE-8036-500DE56E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9389-78E7-481E-8AB2-243873A6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2C4-1BBE-49DA-ABEA-79E6B185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A8CA1-905E-45B9-9002-950E4E53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E3DD-2656-46B2-805A-9FE65AD2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DF0B-2D1B-41E8-9303-36BE478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326D-1B1F-41F5-BCE2-4A593807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46DE-ABEB-4CE4-9C8C-BA61B3D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A590-A616-4322-9401-F1A10C08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05CA-B22F-4248-A754-330AEF92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EEDFA-C0C0-45BA-BDBD-304865E5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0E524-41A1-43E5-AE8C-D3FF8199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6A97-0444-444F-8CEE-9E9FD8C4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808-14F6-4377-B7F2-55D941BB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AFDED-B893-4C24-A7AD-ECE6E101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EC9B-4228-4819-9C96-8925563B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055DF-B63A-4E7C-B674-BCB53FC9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50787-13FA-4D2F-A6C6-6A7A981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D865-57CA-4B21-9308-C263502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385AD-26BA-447E-A19D-CB817D5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73C0-3C11-45D8-8FAD-E1EBED8A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BC05-9C4D-40A1-B6AE-52C4184E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62BBE-07C5-4735-BCE0-DB795924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178-2171-45E1-9C1B-E613A3C8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D66-9079-4099-9C36-2250CFD3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B62-15F4-463F-80D5-6DE1407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218-13E8-4913-AA73-35EB5D69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ED1-6DCE-45CA-AEEE-6EB99D87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483F-EC36-43AE-BC8B-9099B17A73E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77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4EF8-A27F-4287-96FC-1DFAA04201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31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232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33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234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3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36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237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40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241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2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3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244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5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6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247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8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9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250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2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253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56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8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59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1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62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3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4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65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7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68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71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3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74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6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77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8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9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80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1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2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83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4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5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86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7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8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89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0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1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92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3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4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9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6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7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98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9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0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301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2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03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05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306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7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8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309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0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1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312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3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4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315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6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7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318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9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0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321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2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3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324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5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6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327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8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9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330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1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2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333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4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5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336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7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338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339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340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2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3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5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6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47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48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349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0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1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2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3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4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5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6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7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8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9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0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1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2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DBB1-120D-4151-B379-D760296960D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0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0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0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sp>
          <p:nvSpPr>
            <p:cNvPr id="40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1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58DC-7CAD-4B1F-93AD-E7F158D90A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184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ning Your Presentational Skill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1" descr="th.jpg"/>
          <p:cNvPicPr/>
          <p:nvPr/>
        </p:nvPicPr>
        <p:blipFill>
          <a:blip r:embed="rId1"/>
          <a:stretch/>
        </p:blipFill>
        <p:spPr>
          <a:xfrm>
            <a:off x="2414520" y="29718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 of teaching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 direct teach lesson: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the objective (s) clear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 the students as mu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ossible (try to break u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livery of content 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nking the information and inserting several brain break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 and model the concep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 &amp; A or some other review at the closure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Picture 1" descr="th-1.jpg"/>
          <p:cNvPicPr/>
          <p:nvPr/>
        </p:nvPicPr>
        <p:blipFill>
          <a:blip r:embed="rId1"/>
          <a:stretch/>
        </p:blipFill>
        <p:spPr>
          <a:xfrm>
            <a:off x="640080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oing a teach: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ake note of the importance of the three skills of presenting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al:  What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l:  How you say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:  How you look and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134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8" descr="MCj02975670000[1]"/>
          <p:cNvPicPr/>
          <p:nvPr/>
        </p:nvPicPr>
        <p:blipFill>
          <a:blip r:embed="rId1"/>
          <a:stretch/>
        </p:blipFill>
        <p:spPr>
          <a:xfrm>
            <a:off x="3429000" y="4889520"/>
            <a:ext cx="274320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Visual: how you look &amp; ac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ss professional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welcoming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 communication – Look at every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y language – Be open to the stud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late whenever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 – Use an anticipatory s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– Review what was learned; ha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 and answer se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using visual aids to make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ore comprehensible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4" descr="MCj03341680000[1]"/>
          <p:cNvPicPr/>
          <p:nvPr/>
        </p:nvPicPr>
        <p:blipFill>
          <a:blip r:embed="rId1"/>
          <a:stretch/>
        </p:blipFill>
        <p:spPr>
          <a:xfrm>
            <a:off x="7015320" y="4419720"/>
            <a:ext cx="1823760" cy="20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ocal: how you say i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e enthusiasm, sincerity, and confid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the positive, not the neg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y the rhythm, rate, and volume of your vo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smooth transitions.  Prepare the students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 regarding upcoming changes in activ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example, you may say something like, “Before we move on to the next activity, does anyone have any question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unciate and project your vo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on avoiding saying, “You guys,” “uh,” “um,”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erbal: what you s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you provide accurate inform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know the answer to a question,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make up an answ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on the timing of what you do and s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what you are saying coincides with any references you make to visuals and other instructional materia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pare the tea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your lesson objective(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cipate the types of questions you might be asked and be ready with appropriate respons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visual aids that wi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 your presentation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 prepared with all of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, practice, and prac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mo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Picture 1" descr="th-2.jpg"/>
          <p:cNvPicPr/>
          <p:nvPr/>
        </p:nvPicPr>
        <p:blipFill>
          <a:blip r:embed="rId1"/>
          <a:stretch/>
        </p:blipFill>
        <p:spPr>
          <a:xfrm>
            <a:off x="6400800" y="32767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 Black"/>
              </a:rPr>
              <a:t>Success!</a:t>
            </a:r>
            <a:endParaRPr b="0" lang="en-US" sz="5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will do a SUPERB job!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11:18Z</dcterms:created>
  <dc:creator> </dc:creator>
  <dc:description/>
  <dc:language>en-US</dc:language>
  <cp:lastModifiedBy>Karen Verkler</cp:lastModifiedBy>
  <dcterms:modified xsi:type="dcterms:W3CDTF">2014-12-28T09:04:05Z</dcterms:modified>
  <cp:revision>51</cp:revision>
  <dc:subject/>
  <dc:title>Slide 1</dc:title>
</cp:coreProperties>
</file>