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95319-6C2F-4097-A9D9-F8278C3D8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4B34-A92D-44CE-A6D5-DFCCCFE0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3835F-F83D-4F3E-98A3-4428A447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5163F-756E-4A11-8B09-F6C7590CE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EE7A2-B4CE-432B-8613-A67FAD9FD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2323-7E97-4544-86E8-095B38840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07842-A9AC-46E8-BB0E-FDD49A0DB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E14DC-9328-4A41-91A1-DC5C543B0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55760-9FE6-464A-B933-A0C0317B4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4315A-C078-4F37-AE51-87E825183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08316-9B8E-422E-B50F-C6827E322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A3BE9-C0E2-4A57-B746-F8037EF2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D7079-5974-4E95-B2DE-78BEB24DD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75AA0-3225-42C1-B982-3F8A5E461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1C30E-9872-4088-A5B4-AE872A798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2662F-F71D-4A45-803D-2624C650E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30AD3-A8E7-45AE-AAE7-1BA508DD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8B76D-1314-4CFF-A4B2-D9B64B5B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59780-BFE2-4BBB-A688-6A700C9C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0743-20B5-461F-A52C-58A65ECCC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4D7CF-4596-4C0A-AD78-06CC3F0F6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4E9A-005D-453B-A66D-659A4097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15DD-C86D-4095-8176-0F20AECC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519D-DB88-4B9D-BC0D-54103906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46FA-76A7-4137-93EF-515D74E1D60E}"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4752-C365-4046-970F-11D14C234E5B}"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cond Language Acquisition Theory</a:t>
            </a:r>
            <a:endParaRPr b="1" lang="en-US" sz="44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gain the greatest amount of proficiency when they are in a setting in which they are surrounded by language that is made comprehensible because of the context and because of the way that teachers communicate with them (Stephen Krashen).  </a:t>
            </a:r>
            <a:endParaRPr b="0" lang="en-US" sz="32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31"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s acquire rules of a language in a predictable sequ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cquisition is independent of the order in which rule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y have been taught.  </a:t>
            </a:r>
            <a:endParaRPr b="0" lang="en-US" sz="3200" spc="-1" strike="noStrike">
              <a:solidFill>
                <a:srgbClr val="ffffff"/>
              </a:solidFill>
              <a:latin typeface="Tahoma"/>
            </a:endParaRPr>
          </a:p>
        </p:txBody>
      </p:sp>
      <p:pic>
        <p:nvPicPr>
          <p:cNvPr id="132" name="Picture 3" descr=""/>
          <p:cNvPicPr/>
          <p:nvPr/>
        </p:nvPicPr>
        <p:blipFill>
          <a:blip r:embed="rId1"/>
          <a:stretch/>
        </p:blipFill>
        <p:spPr>
          <a:xfrm>
            <a:off x="5943600" y="3809880"/>
            <a:ext cx="2133720" cy="213372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19" dur="500"/>
                                        <p:tgtEl>
                                          <p:spTgt spid="131">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24" dur="500"/>
                                        <p:tgtEl>
                                          <p:spTgt spid="131">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2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ciples of Language Acquisition</a:t>
            </a:r>
            <a:endParaRPr b="1" lang="en-US" sz="44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quisition versus Learning</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ing is a conscious process in which an individual learns about the structure of language.  This method tends to rely on memorization of                       vocabulary lists and </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tical rules.  </a:t>
            </a:r>
            <a:endParaRPr b="0" lang="en-US" sz="2800" spc="-1" strike="noStrike">
              <a:solidFill>
                <a:srgbClr val="ffffff"/>
              </a:solidFill>
              <a:latin typeface="Tahoma"/>
            </a:endParaRPr>
          </a:p>
        </p:txBody>
      </p:sp>
      <p:pic>
        <p:nvPicPr>
          <p:cNvPr id="113" name="Picture 3" descr=""/>
          <p:cNvPicPr/>
          <p:nvPr/>
        </p:nvPicPr>
        <p:blipFill>
          <a:blip r:embed="rId1"/>
          <a:stretch/>
        </p:blipFill>
        <p:spPr>
          <a:xfrm>
            <a:off x="5334120" y="4038480"/>
            <a:ext cx="2514600" cy="2514600"/>
          </a:xfrm>
          <a:prstGeom prst="rect">
            <a:avLst/>
          </a:prstGeom>
          <a:ln w="0">
            <a:noFill/>
          </a:ln>
        </p:spPr>
      </p:pic>
    </p:spTree>
  </p:cSld>
  <p:transition spd="slow">
    <p:wipe dir="l"/>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4" dur="500"/>
                                        <p:tgtEl>
                                          <p:spTgt spid="112">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7" dur="500"/>
                                        <p:tgtEl>
                                          <p:spTgt spid="112">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quisition vs. Learning</a:t>
            </a:r>
            <a:endParaRPr b="1" lang="en-US" sz="4400" spc="-1" strike="noStrike">
              <a:solidFill>
                <a:srgbClr val="eaeaea"/>
              </a:solidFill>
              <a:latin typeface="Tahoma"/>
            </a:endParaRPr>
          </a:p>
        </p:txBody>
      </p:sp>
      <p:sp>
        <p:nvSpPr>
          <p:cNvPr id="11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quisition is a subconscious process by which individuals absorb a language in a natural way similar to the way by which the first language was acquired.  This process is communicatively-based.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ocus of instruction i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 meaning rather than on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ammar and structure.  </a:t>
            </a:r>
            <a:endParaRPr b="0" lang="en-US" sz="2800" spc="-1" strike="noStrike">
              <a:solidFill>
                <a:srgbClr val="ffffff"/>
              </a:solidFill>
              <a:latin typeface="Tahoma"/>
            </a:endParaRPr>
          </a:p>
        </p:txBody>
      </p:sp>
      <p:pic>
        <p:nvPicPr>
          <p:cNvPr id="116" name="Picture 3" descr=""/>
          <p:cNvPicPr/>
          <p:nvPr/>
        </p:nvPicPr>
        <p:blipFill>
          <a:blip r:embed="rId1"/>
          <a:stretch/>
        </p:blipFill>
        <p:spPr>
          <a:xfrm>
            <a:off x="5943600" y="3962520"/>
            <a:ext cx="2362320" cy="2361960"/>
          </a:xfrm>
          <a:prstGeom prst="rect">
            <a:avLst/>
          </a:prstGeom>
          <a:ln w="0">
            <a:noFill/>
          </a:ln>
        </p:spPr>
      </p:pic>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7" dur="500"/>
                                        <p:tgtEl>
                                          <p:spTgt spid="11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2" dur="500"/>
                                        <p:tgtEl>
                                          <p:spTgt spid="11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37" dur="500"/>
                                        <p:tgtEl>
                                          <p:spTgt spid="11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put Hypothesis</a:t>
            </a:r>
            <a:endParaRPr b="1" lang="en-US" sz="44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Handwriting"/>
                <a:ea typeface="Lucida Handwriting"/>
              </a:rPr>
              <a:t>i </a:t>
            </a:r>
            <a:r>
              <a:rPr b="0" lang="en-US" sz="2800" spc="-1" strike="noStrike">
                <a:solidFill>
                  <a:srgbClr val="ffffff"/>
                </a:solidFill>
                <a:latin typeface="Tahoma"/>
                <a:ea typeface="Lucida Handwriting"/>
              </a:rPr>
              <a:t>+ 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In order for students to increase their level of language acquisition, input must be provided at one level higher than their current level of language competenc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Handwriting"/>
              </a:rPr>
              <a:t>Comprehensible input can be provided by using visuals and manipulatives as context within which content is delivered. </a:t>
            </a:r>
            <a:endParaRPr b="0" lang="en-US" sz="2800" spc="-1" strike="noStrike">
              <a:solidFill>
                <a:srgbClr val="ffffff"/>
              </a:solidFill>
              <a:latin typeface="Tahoma"/>
            </a:endParaRPr>
          </a:p>
        </p:txBody>
      </p:sp>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9" dur="500"/>
                                        <p:tgtEl>
                                          <p:spTgt spid="11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4" dur="500"/>
                                        <p:tgtEl>
                                          <p:spTgt spid="118">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br>
              <a:rPr sz="4400"/>
            </a:br>
            <a:r>
              <a:rPr b="1" lang="en-US" sz="4400" spc="-1" strike="noStrike">
                <a:solidFill>
                  <a:srgbClr val="eaeaea"/>
                </a:solidFill>
                <a:latin typeface="Tahoma"/>
              </a:rPr>
              <a:t>“Grammar Police”</a:t>
            </a:r>
            <a:endParaRPr b="1" lang="en-US" sz="4400" spc="-1" strike="noStrike">
              <a:solidFill>
                <a:srgbClr val="eaeaea"/>
              </a:solidFill>
              <a:latin typeface="Tahoma"/>
            </a:endParaRPr>
          </a:p>
        </p:txBody>
      </p:sp>
      <p:pic>
        <p:nvPicPr>
          <p:cNvPr id="120" name="Content Placeholder 3" descr=""/>
          <p:cNvPicPr/>
          <p:nvPr/>
        </p:nvPicPr>
        <p:blipFill>
          <a:blip r:embed="rId1"/>
          <a:srcRect l="0" t="22741" r="0" b="22741"/>
          <a:stretch/>
        </p:blipFill>
        <p:spPr>
          <a:xfrm>
            <a:off x="2057400" y="2590920"/>
            <a:ext cx="5587920" cy="304776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nitor Hypothesis</a:t>
            </a:r>
            <a:endParaRPr b="1" lang="en-US" sz="4400" spc="-1" strike="noStrike">
              <a:solidFill>
                <a:srgbClr val="eaeaea"/>
              </a:solidFill>
              <a:latin typeface="Tahoma"/>
            </a:endParaRPr>
          </a:p>
        </p:txBody>
      </p:sp>
      <p:sp>
        <p:nvSpPr>
          <p:cNvPr id="122"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nitor is a trigger in the brain that applies learned rules in order to produce or correctly interpret a message in L2.  When the monitor is engaged, the speaker becomes aware of a mistake after it has been made.  The monitor also triggers awareness of the error in time to prevent the speaker from orally producing it.  </a:t>
            </a:r>
            <a:endParaRPr b="0" lang="en-US" sz="2800" spc="-1" strike="noStrike">
              <a:solidFill>
                <a:srgbClr val="ffffff"/>
              </a:solidFill>
              <a:latin typeface="Tahoma"/>
            </a:endParaRPr>
          </a:p>
        </p:txBody>
      </p:sp>
    </p:spTree>
  </p:cSld>
  <p:transition spd="slow">
    <p:wipe dir="l"/>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66"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ditions to maximize the efficiency of the monitor</a:t>
            </a:r>
            <a:endParaRPr b="1" lang="en-US" sz="4000" spc="-1" strike="noStrike">
              <a:solidFill>
                <a:srgbClr val="eaeaea"/>
              </a:solidFill>
              <a:latin typeface="Tahoma"/>
            </a:endParaRPr>
          </a:p>
        </p:txBody>
      </p:sp>
      <p:sp>
        <p:nvSpPr>
          <p:cNvPr id="124"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know the rul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have time to think of the rule and apply i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writer must be in a setting in which focus on form is expected.</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ditions above usually don’t apply in normal conversational contexts.  </a:t>
            </a:r>
            <a:endParaRPr b="0" lang="en-US" sz="3200" spc="-1" strike="noStrike">
              <a:solidFill>
                <a:srgbClr val="ffffff"/>
              </a:solidFill>
              <a:latin typeface="Tahoma"/>
            </a:endParaRPr>
          </a:p>
        </p:txBody>
      </p:sp>
    </p:spTree>
  </p:cSld>
  <p:transition spd="slow">
    <p:wipe dir="l"/>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3" dur="500"/>
                                        <p:tgtEl>
                                          <p:spTgt spid="12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8" dur="500"/>
                                        <p:tgtEl>
                                          <p:spTgt spid="124">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83" dur="500"/>
                                        <p:tgtEl>
                                          <p:spTgt spid="124">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88"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ffective Filter</a:t>
            </a:r>
            <a:endParaRPr b="1" lang="en-US" sz="44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ffective filter, a hypothetical concept, influences the ease with which individuals comprehend material.  When students do not feel comfortable in an instructional situation, their affective filter is high and they are not very receptive to input.  Conversely, when they feel comfortable, their affective filter is low, thus allowing more input to pass through it.  </a:t>
            </a:r>
            <a:endParaRPr b="0" lang="en-US" sz="2800" spc="-1" strike="noStrike">
              <a:solidFill>
                <a:srgbClr val="ffffff"/>
              </a:solidFill>
              <a:latin typeface="Tahoma"/>
            </a:endParaRPr>
          </a:p>
        </p:txBody>
      </p:sp>
    </p:spTree>
  </p:cSld>
  <p:transition spd="slow">
    <p:wipe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9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tural Order Hypothesis</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nguage learners will acquire the structures of language in approximately the same order, regardless of what i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ing taught in 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mal setting.  </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562720" y="3733920"/>
            <a:ext cx="2438280" cy="2438280"/>
          </a:xfrm>
          <a:prstGeom prst="rect">
            <a:avLst/>
          </a:prstGeom>
          <a:ln w="0">
            <a:noFill/>
          </a:ln>
        </p:spPr>
      </p:pic>
    </p:spTree>
  </p:cSld>
  <p:transition spd="slow">
    <p:wipe dir="l"/>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02" dur="500"/>
                                        <p:tgtEl>
                                          <p:spTgt spid="12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07" dur="500"/>
                                        <p:tgtEl>
                                          <p:spTgt spid="128">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1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2-06-10T17:18:24Z</cp:lastPrinted>
  <dcterms:modified xsi:type="dcterms:W3CDTF">2014-01-02T17:39:58Z</dcterms:modified>
  <cp:revision>201</cp:revision>
  <dc:subject/>
  <dc:title>Slide 1</dc:title>
</cp:coreProperties>
</file>