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505-76A0-4F90-B4EF-CF31DE5D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B24-EA35-46DC-A033-0DBADED9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11D-8361-4D0E-8E06-18CBC06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742-6CE1-49D7-8CC4-F941006E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328-4EDE-4BE5-897C-00541BF6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F2C6-AB90-4EFF-ACEF-06F0FCAC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708-1D04-4150-8244-72A0B46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434-01AC-49BA-BB1C-914DC29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512-6E26-43D1-B15F-69E415B5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4DEA-7E0C-44EE-96E9-19DC27F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4C6-2231-44E2-8CB2-74C70D7E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AB6-91B6-4E08-B796-D43E64F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C1C5-CDC3-49D0-A55A-2254FAEE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FB74-99E2-4AB1-BF00-3C1C84A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0F1B-195F-40FC-B690-A06A3A98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023C-CE7D-4B2B-846D-9F339912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B6B-B8DC-4375-9E2E-7102C9E9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E86-B6B0-4B38-ABDD-CCF17E18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F3D-78FE-47BE-8B0A-D52D0CD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5FA-A877-47E7-A562-F702CC5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CA1-014A-4202-8794-E389B63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606-3F30-4CCE-8B6B-3441EE1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B29-4600-4DF3-80D3-AB77A6D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A18-5432-449F-B24F-88A0E40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6CF-1260-458F-9DE8-5D95E88CA2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640-A2C2-4A56-A6B4-8658023DAD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Chapter 8: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MS PGothic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19666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mmunication is the LIFELINE of any relationship.  When you stop communicating, you start losing your valuable relationship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Author Unkn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hapter 8:  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76120" y="1966680"/>
            <a:ext cx="7358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ciency:  the ability to use language to perform global tasks or language functions within a variety of contexts/content areas, with a given degree of accuracy, and by means of specific text ty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taneous use of langu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491160" y="396252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ice:  acquiring vocabulary            through physical activities; using contextualized vocabulary in short conversations and presen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:  Engaging in spontaneous conversations involving familiar topics; asking questions; negotiating meaning in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flipH="1">
            <a:off x="7086600" y="2209680"/>
            <a:ext cx="1441440" cy="1446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-768240" y="9698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4752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d:  Conversing in a participatory manner; speaking in paragraphs using connector words; narrating and describing in present, past, and future; participating in situations with unanticip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:  Discussing topics concretely and abstractly; supporting and defending an opinion; hypothesizing; conversing in linguistically unfamiliar situations; engaging in circumlocu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159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active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348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red activities and 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plays – present the                           situation card in the native                         language so that students                    completely understand the                       tas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pinions, debating, narrating, describing, explaining:  advanced cla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thumb102021219354654.jpg"/>
          <p:cNvPicPr/>
          <p:nvPr/>
        </p:nvPicPr>
        <p:blipFill>
          <a:blip r:embed="rId1"/>
          <a:stretch/>
        </p:blipFill>
        <p:spPr>
          <a:xfrm>
            <a:off x="6703920" y="2077920"/>
            <a:ext cx="1754280" cy="249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thumb5181653128196.jpg"/>
          <p:cNvPicPr/>
          <p:nvPr/>
        </p:nvPicPr>
        <p:blipFill>
          <a:blip r:embed="rId2"/>
          <a:stretch/>
        </p:blipFill>
        <p:spPr>
          <a:xfrm>
            <a:off x="5791320" y="3486240"/>
            <a:ext cx="151452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536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hapter 9:  The Nature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831680"/>
            <a:ext cx="7925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gives an oral or multimedia presentation to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prepares a written message/text/product for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, multimedia, and written presentations are prepared in advance and may require research as part of the prepa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may do the                                                           presentation while reading from                                        a script, while glancing at notes,                                                                   or may deliver a pre-planned talk spontaneous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943600" y="4403880"/>
            <a:ext cx="196992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ypes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– Describ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rrative – Telling a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ve – Explaining how to do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 – Providing evidence or justifying why something is as 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 – Persuading an audience to adopt our point of view or to rethink an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br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360" y="1982880"/>
            <a:ext cx="73580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scoring guidelines for                                   evaluating student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the means for teachers to give feedback to students about their progress as well as to assign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how what constitutes good performance before the students even perform the tas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“objectify” grading of oral and written work, projects, and authentic task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llent website for creating rubrics:  http://rubistar.4teachers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319248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4-03-14T09:58:09Z</cp:lastPrinted>
  <dcterms:modified xsi:type="dcterms:W3CDTF">2014-03-14T09:59:36Z</dcterms:modified>
  <cp:revision>245</cp:revision>
  <dc:subject/>
  <dc:title>Slide 1</dc:title>
</cp:coreProperties>
</file>