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4D938-0C6F-4F89-8B17-2E314C392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842DA-93B6-4A93-AF4F-65286F385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4FA5B-0FFA-4558-886E-D3C311634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7C594-2EAA-4F0A-99D0-3C22CC127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0380D-EA27-425C-92D8-F44D8E28D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1099A-ADD8-491E-8FEE-E179C6826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7D53B-F9B2-4855-A740-C8947DCEC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300B5-982D-48DF-BA4C-2C98C365F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4124B-A457-4D1F-945D-7ABB90372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3E118-A12F-4297-9853-C5C34EB50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60F21-692F-47FC-A65B-8D625E960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037D1-C395-472D-8373-3FE2FE284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598B5-6CDE-476B-ADE3-B30C41360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79366-00E9-439C-B849-7CA5E17EF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49CE1-4BC8-4689-9CEA-E6ADBD777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7CE0B-4B20-4D83-8848-FA3A3BEFB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FE5CF-5AF0-4180-A642-AD9CC0F09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BAAC0-21BF-4A65-AFEC-B6A56B556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039F2-4972-4C4E-9770-FFF35BFDB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1590C-E69A-4561-88E2-594DE8173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B4CB8-2A03-457C-85EB-E6A08E60A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76A78-D5A9-4385-9A01-4432E85A6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124D2-8DA9-482E-B983-E8B7E7A0B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8F7D9-53A9-47D4-9A83-26B9F1E1B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60960" indent="-2541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017000" indent="-2034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424160" indent="-2034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1830960" indent="-2034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1830960" indent="-2034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1830960" indent="-2034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5888D-B3AE-482F-AFEC-F4E4DBA728A3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60960" indent="-2541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017000" indent="-2034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424160" indent="-2034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1830960" indent="-2034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1830960" indent="-2034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1830960" indent="-2034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B8EA6-4F42-4571-A845-81C7A764CAEE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  <a:ea typeface="MS PGothic"/>
              </a:rPr>
              <a:t>Chapter 8: Developing Oral and Written </a:t>
            </a:r>
            <a:br>
              <a:rPr sz="2800"/>
            </a:br>
            <a:r>
              <a:rPr b="1" lang="en-US" sz="2800" spc="-1" strike="noStrike">
                <a:solidFill>
                  <a:srgbClr val="eaeaea"/>
                </a:solidFill>
                <a:latin typeface="Tahoma"/>
                <a:ea typeface="MS PGothic"/>
              </a:rPr>
              <a:t>Interpersonal Communication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219320" y="1966680"/>
            <a:ext cx="7772400" cy="32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  <a:ea typeface="MS PGothic"/>
              </a:rPr>
              <a:t>Communication is the LIFELINE of any relationship.  When you stop communicating, you start losing your valuable relationship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MS PGothic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MS PGothic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MS PGothic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MS PGothic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MS PGothic"/>
              </a:rPr>
              <a:t>    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  <a:ea typeface="MS PGothic"/>
              </a:rPr>
              <a:t>-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MS PGothic"/>
              </a:rPr>
              <a:t>Author Unknow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Chapter 8:  Developing Oral and Written </a:t>
            </a:r>
            <a:br>
              <a:rPr sz="2800"/>
            </a:b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Interpersonal Communication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1176120" y="1966680"/>
            <a:ext cx="7358040" cy="32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oficiency:  the ability to use language to perform global tasks or language functions within a variety of contexts/content areas, with a given degree of accuracy, and by means of specific text type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pontaneous use of languag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3" name="Picture 3" descr=""/>
          <p:cNvPicPr/>
          <p:nvPr/>
        </p:nvPicPr>
        <p:blipFill>
          <a:blip r:embed="rId1"/>
          <a:stretch/>
        </p:blipFill>
        <p:spPr>
          <a:xfrm>
            <a:off x="6491160" y="3962520"/>
            <a:ext cx="1814760" cy="181296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93520" y="213840"/>
            <a:ext cx="735804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Types of activities to reach    proficiency levels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vice:  acquiring vocabulary            through physical activities; using contextualized vocabulary in short conversations and presenta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ermediate:  Engaging in spontaneous conversations involving familiar topics; asking questions; negotiating meaning in conversation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6" name="Picture 3" descr=""/>
          <p:cNvPicPr/>
          <p:nvPr/>
        </p:nvPicPr>
        <p:blipFill>
          <a:blip r:embed="rId1"/>
          <a:stretch/>
        </p:blipFill>
        <p:spPr>
          <a:xfrm flipH="1">
            <a:off x="7086600" y="2209680"/>
            <a:ext cx="1441440" cy="1446480"/>
          </a:xfrm>
          <a:prstGeom prst="rect">
            <a:avLst/>
          </a:prstGeom>
          <a:ln w="0">
            <a:noFill/>
          </a:ln>
        </p:spPr>
      </p:pic>
      <p:sp>
        <p:nvSpPr>
          <p:cNvPr id="117" name="TextBox 3"/>
          <p:cNvSpPr/>
          <p:nvPr/>
        </p:nvSpPr>
        <p:spPr>
          <a:xfrm>
            <a:off x="-768240" y="969840"/>
            <a:ext cx="18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ipe dir="l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47520" y="42480"/>
            <a:ext cx="735804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Types of activities to reach    proficiency levels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dvanced:  Conversing in a participatory manner; speaking in paragraphs using connector words; narrating and describing in present, past, and future; participating in situations with unanticipated complication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uperior:  Discussing topics concretely and abstractly; supporting and defending an opinion; hypothesizing; conversing in linguistically unfamiliar situations; engaging in circumlocution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ipe dir="l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28440" y="159840"/>
            <a:ext cx="735804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Interactive Activities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1023480" y="1906560"/>
            <a:ext cx="7358040" cy="40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-26064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vement activiti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60640" indent="-26064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aired activities and interview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60640" indent="-26064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versation car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60640" indent="-26064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ole plays – present the                           situation card in the native                         language so that students                    completely understand the                       task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60640" indent="-26064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haring opinions, debating, narrating, describing, explaining:  advanced class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2" name="Picture 4" descr="thumb102021219354654.jpg"/>
          <p:cNvPicPr/>
          <p:nvPr/>
        </p:nvPicPr>
        <p:blipFill>
          <a:blip r:embed="rId1"/>
          <a:stretch/>
        </p:blipFill>
        <p:spPr>
          <a:xfrm>
            <a:off x="6703920" y="2077920"/>
            <a:ext cx="1754280" cy="24940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3" descr="thumb5181653128196.jpg"/>
          <p:cNvPicPr/>
          <p:nvPr/>
        </p:nvPicPr>
        <p:blipFill>
          <a:blip r:embed="rId2"/>
          <a:stretch/>
        </p:blipFill>
        <p:spPr>
          <a:xfrm>
            <a:off x="5791320" y="3486240"/>
            <a:ext cx="1514520" cy="215244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94920" y="53640"/>
            <a:ext cx="735804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ahoma"/>
              </a:rPr>
              <a:t>Chapter 9:  The Nature of Oral and Written Presentational Communication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38080" y="1831680"/>
            <a:ext cx="7925040" cy="403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 student gives an oral or multimedia presentation to an audience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70720" indent="-27072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 student prepares a written message/text/product for an audience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70720" indent="-27072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ral, multimedia, and written presentations are prepared in advance and may require research as part of the preparatio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70720" indent="-27072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 student may do the                                                           presentation while reading from                                        a script, while glancing at notes,                                                                   or may deliver a pre-planned talk spontaneously.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6" name="Picture 3" descr=""/>
          <p:cNvPicPr/>
          <p:nvPr/>
        </p:nvPicPr>
        <p:blipFill>
          <a:blip r:embed="rId1"/>
          <a:stretch/>
        </p:blipFill>
        <p:spPr>
          <a:xfrm>
            <a:off x="5943600" y="4403880"/>
            <a:ext cx="1969920" cy="131112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320" y="15228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100"/>
            </a:br>
            <a:r>
              <a:rPr b="1" lang="en-US" sz="3200" spc="-1" strike="noStrike">
                <a:solidFill>
                  <a:srgbClr val="eaeaea"/>
                </a:solidFill>
                <a:latin typeface="Tahoma"/>
              </a:rPr>
              <a:t>Types of Oral and Written Presentational Communication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scriptive – Describing someth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arrative – Telling a sto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monstrative – Explaining how to do someth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xplanatory – Providing evidence or justifying why something is as it i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ransformative – Persuading an audience to adopt our point of view or to rethink an ide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ipe dir="l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560" y="42480"/>
            <a:ext cx="735804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Rubric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990360" y="1982880"/>
            <a:ext cx="7358040" cy="449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t of scoring guidelines for                                   evaluating student work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ovide the means for teachers to give feedback to students about their progress as well as to assign grad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y show what constitutes good performance before the students even perform the task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an “objectify” grading of oral and written work, projects, and authentic tasks.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xcellent website for creating rubrics:  http://rubistar.4teachers.org/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1" name="Picture 3" descr=""/>
          <p:cNvPicPr/>
          <p:nvPr/>
        </p:nvPicPr>
        <p:blipFill>
          <a:blip r:embed="rId1"/>
          <a:stretch/>
        </p:blipFill>
        <p:spPr>
          <a:xfrm>
            <a:off x="5562720" y="990720"/>
            <a:ext cx="3192480" cy="166032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4T13:25:38Z</dcterms:created>
  <dc:creator> </dc:creator>
  <dc:description/>
  <dc:language>en-US</dc:language>
  <cp:lastModifiedBy>Karen Verkler</cp:lastModifiedBy>
  <cp:lastPrinted>2014-03-14T09:58:09Z</cp:lastPrinted>
  <dcterms:modified xsi:type="dcterms:W3CDTF">2014-03-14T09:59:36Z</dcterms:modified>
  <cp:revision>245</cp:revision>
  <dc:subject/>
  <dc:title>Slide 1</dc:title>
</cp:coreProperties>
</file>