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A05-85AC-468A-AEC4-F9A004E6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702-05C2-4ED8-89C1-7074DA7F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609-98A6-4306-968F-80ADC220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118-B5F1-4E0D-9DEF-E2FD6D2C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DC9-AB2B-49DF-A774-3C62FE8A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70D-BD0E-4ED5-98CE-3EE5C76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AB0B-7634-44DB-A12A-96AE83C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976A-0319-4F59-BCBB-6A9A650F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AAA3-E895-4BBA-9D4D-BBA39F94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3F2-E914-4BC3-8CBC-6F4535B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9810-67A7-4259-81FF-96ECD2F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068-4A5D-46C5-B7B4-05537FBB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2670-EBAB-4767-B87F-B6C4130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242-C397-453D-8624-F0EBE93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58E-C485-4179-81A5-037E07D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7911-A0CF-4B5A-ADC9-BF8C3A5A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E2A1-131F-49B6-84BB-70D39739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8EA-AC3C-4089-8F71-BEFE1B7B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9A0-5385-4B0F-8206-996018D0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599-9486-45A0-BB40-5DEA42C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7A3-18F5-4ADA-AF74-7503B56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2A6-C256-432A-8456-4E12C219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FBB-DA08-4B0A-9ACB-37EDEB2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BFC-67B1-4808-A339-52853978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BB2D-E01F-475E-B5A9-9B21641A10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256D-7E59-407D-827C-751C758D78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MS PGothic"/>
              </a:rPr>
              <a:t>Chapter 8: 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MS PGothic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19666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mmunication is the LIFELINE of any relationship.  When you stop communicating, you start losing your valuable relationship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Author Unkn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hapter 8:  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76120" y="1966680"/>
            <a:ext cx="7358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ciency:  the ability to use language to perform global tasks or language functions within a variety of contexts/content areas, with a given degree of accuracy, and by means of specific text ty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taneous use of langu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491160" y="396252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ice:  acquiring vocabulary            through physical activities; using contextualized vocabulary in short conversations and presen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:  Engaging in spontaneous conversations involving familiar topics; asking questions; negotiating meaning in convers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flipH="1">
            <a:off x="7086600" y="2209680"/>
            <a:ext cx="1441440" cy="1446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-768240" y="9698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4752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d:  Conversing in a participatory manner; speaking in paragraphs using connector words; narrating and describing in present, past, and future; participating in situations with unanticip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:  Discussing topics concretely and abstractly; supporting and defending an opinion; hypothesizing; conversing in linguistically unfamiliar situations; engaging in circumlocu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159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active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348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red activities and 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plays – present the                           situation card in the native                         language so that students                    completely understand the                       tas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opinions, debating, narrating, describing, explaining:  advanced cla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thumb102021219354654.jpg"/>
          <p:cNvPicPr/>
          <p:nvPr/>
        </p:nvPicPr>
        <p:blipFill>
          <a:blip r:embed="rId1"/>
          <a:stretch/>
        </p:blipFill>
        <p:spPr>
          <a:xfrm>
            <a:off x="6703920" y="2077920"/>
            <a:ext cx="1754280" cy="249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thumb5181653128196.jpg"/>
          <p:cNvPicPr/>
          <p:nvPr/>
        </p:nvPicPr>
        <p:blipFill>
          <a:blip r:embed="rId2"/>
          <a:stretch/>
        </p:blipFill>
        <p:spPr>
          <a:xfrm>
            <a:off x="5791320" y="3486240"/>
            <a:ext cx="151452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536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hapter 9:  The Nature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1831680"/>
            <a:ext cx="7925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gives an oral or multimedia presentation to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prepares a written message/text/product for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al, multimedia, and written presentations are prepared in advance and may require research as part of the prepa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may do the                                                           presentation while reading from                                        a script, while glancing at notes,                                                                   or may deliver a pre-planned talk spontaneous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943600" y="4403880"/>
            <a:ext cx="196992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ypes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– Describ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rrative – Telling a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nstrative – Explaining how to do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 – Providing evidence or justifying why something is as 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 – Persuading an audience to adopt our point of view or to rethink an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br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360" y="1982880"/>
            <a:ext cx="73580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of scoring guidelines for                                   evaluating student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the means for teachers to give feedback to students about their progress as well as to assign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how what constitutes good performance before the students even perform the tas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“objectify” grading of oral and written work, projects, and authentic task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llent website for creating rubrics:  http://rubistar.4teachers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319248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4-03-14T09:58:09Z</cp:lastPrinted>
  <dcterms:modified xsi:type="dcterms:W3CDTF">2014-03-14T09:59:36Z</dcterms:modified>
  <cp:revision>245</cp:revision>
  <dc:subject/>
  <dc:title>Slide 1</dc:title>
</cp:coreProperties>
</file>